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A99-169A-4DD6-B449-AC9181E0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885-CFDD-4EF2-8E49-DCB731C7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472-6217-42DA-8716-0A4142E1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AC8-010E-4D01-A05D-A871BC17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F57-908F-4994-AB4C-2091F3FC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B9E-8ECC-47CE-91AF-01E5E4E5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12F-71FC-4276-8AFD-CCC9F13B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B63-D7D3-4826-95A9-AF1F97F4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764-49BE-45B6-8322-08BF8DFD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CB0-0782-466E-861D-C73DA960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2D3-24B8-41B7-8398-B87919BA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124-9AA4-4742-8EA8-F6F1B607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12FA-3305-4602-8CE1-F2AF335070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image" Target="../media/image9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image" Target="../media/image11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2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450800" y="2041560"/>
            <a:ext cx="643752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7" descr=""/>
          <p:cNvPicPr/>
          <p:nvPr/>
        </p:nvPicPr>
        <p:blipFill>
          <a:blip r:embed="rId2"/>
          <a:stretch/>
        </p:blipFill>
        <p:spPr>
          <a:xfrm>
            <a:off x="-49320" y="396720"/>
            <a:ext cx="9242640" cy="167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2020865"/>
          <p:cNvPicPr/>
          <p:nvPr/>
        </p:nvPicPr>
        <p:blipFill>
          <a:blip r:embed="rId3"/>
          <a:stretch/>
        </p:blipFill>
        <p:spPr>
          <a:xfrm>
            <a:off x="2714760" y="3429000"/>
            <a:ext cx="36334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3"/>
          <p:cNvGraphicFramePr/>
          <p:nvPr/>
        </p:nvGraphicFramePr>
        <p:xfrm>
          <a:off x="3143160" y="3214800"/>
          <a:ext cx="2214720" cy="248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3214800"/>
                    <a:ext cx="221472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Прямоугольник 3" descr=""/>
          <p:cNvPicPr/>
          <p:nvPr/>
        </p:nvPicPr>
        <p:blipFill>
          <a:blip r:embed="rId3"/>
          <a:stretch/>
        </p:blipFill>
        <p:spPr>
          <a:xfrm>
            <a:off x="2266920" y="549360"/>
            <a:ext cx="36162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3"/>
          <p:cNvSpPr/>
          <p:nvPr/>
        </p:nvSpPr>
        <p:spPr>
          <a:xfrm>
            <a:off x="4214880" y="3286080"/>
            <a:ext cx="4248000" cy="928800"/>
          </a:xfrm>
          <a:prstGeom prst="roundRect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один ударный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 action="ppaction://hlinksldjump"/>
              </a:rPr>
              <a:t>гласный</a:t>
            </a: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 зв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4071960" y="1928880"/>
            <a:ext cx="4321080" cy="10000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два  ударных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 action="ppaction://hlinksldjump"/>
              </a:rPr>
              <a:t>гласных</a:t>
            </a: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/>
          <p:cNvSpPr/>
          <p:nvPr/>
        </p:nvSpPr>
        <p:spPr>
          <a:xfrm>
            <a:off x="4000680" y="4714920"/>
            <a:ext cx="4321080" cy="998640"/>
          </a:xfrm>
          <a:prstGeom prst="roundRect">
            <a:avLst>
              <a:gd name="adj" fmla="val 50000"/>
            </a:avLst>
          </a:prstGeom>
          <a:solidFill>
            <a:srgbClr val="c6d9f1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все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 action="ppaction://hlinksldjump"/>
              </a:rPr>
              <a:t>гласные</a:t>
            </a: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 звуки уда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барабан"/>
          <p:cNvPicPr/>
          <p:nvPr/>
        </p:nvPicPr>
        <p:blipFill>
          <a:blip r:embed="rId4"/>
          <a:stretch/>
        </p:blipFill>
        <p:spPr>
          <a:xfrm>
            <a:off x="900000" y="2781360"/>
            <a:ext cx="2414880" cy="25700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5"/>
          <a:stretch/>
        </p:blipFill>
        <p:spPr>
          <a:xfrm>
            <a:off x="652320" y="384120"/>
            <a:ext cx="7710480" cy="104796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858080" y="592920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7" descr=""/>
          <p:cNvPicPr/>
          <p:nvPr/>
        </p:nvPicPr>
        <p:blipFill>
          <a:blip r:embed="rId1"/>
          <a:stretch/>
        </p:blipFill>
        <p:spPr>
          <a:xfrm>
            <a:off x="639720" y="360360"/>
            <a:ext cx="8218440" cy="1938240"/>
          </a:xfrm>
          <a:prstGeom prst="rect">
            <a:avLst/>
          </a:prstGeom>
          <a:ln w="0">
            <a:noFill/>
          </a:ln>
        </p:spPr>
      </p:pic>
      <p:sp>
        <p:nvSpPr>
          <p:cNvPr id="51" name="Волна 8">
            <a:hlinkClick r:id="rId2" action="ppaction://hlinksldjump"/>
          </p:cNvPr>
          <p:cNvSpPr/>
          <p:nvPr/>
        </p:nvSpPr>
        <p:spPr>
          <a:xfrm>
            <a:off x="4000680" y="2357280"/>
            <a:ext cx="4643280" cy="1000440"/>
          </a:xfrm>
          <a:custGeom>
            <a:avLst/>
            <a:gdLst>
              <a:gd name="textAreaLeft" fmla="*/ 0 w 4643280"/>
              <a:gd name="textAreaRight" fmla="*/ 4643640 w 4643280"/>
              <a:gd name="textAreaTop" fmla="*/ 250200 h 1000440"/>
              <a:gd name="textAreaBottom" fmla="*/ 750600 h 1000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Arial"/>
              </a:rPr>
              <a:t>а, о, и, е,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9">
            <a:hlinkClick r:id="rId3" action="ppaction://hlinksldjump"/>
          </p:cNvPr>
          <p:cNvSpPr/>
          <p:nvPr/>
        </p:nvSpPr>
        <p:spPr>
          <a:xfrm>
            <a:off x="3643200" y="3643200"/>
            <a:ext cx="4786560" cy="914400"/>
          </a:xfrm>
          <a:custGeom>
            <a:avLst/>
            <a:gdLst>
              <a:gd name="textAreaLeft" fmla="*/ 0 w 4786560"/>
              <a:gd name="textAreaRight" fmla="*/ 4786920 w 4786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Calibri"/>
                <a:ea typeface="Arial"/>
              </a:rPr>
              <a:t>у, ю, ы, э, 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Волна 10"/>
          <p:cNvGrpSpPr/>
          <p:nvPr/>
        </p:nvGrpSpPr>
        <p:grpSpPr>
          <a:xfrm>
            <a:off x="3876840" y="4992840"/>
            <a:ext cx="4535280" cy="1285560"/>
            <a:chOff x="3876840" y="4992840"/>
            <a:chExt cx="4535280" cy="1285560"/>
          </a:xfrm>
        </p:grpSpPr>
        <p:pic>
          <p:nvPicPr>
            <p:cNvPr id="54" name="Волна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76840" y="4992840"/>
              <a:ext cx="4535280" cy="12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929040" y="5300640"/>
              <a:ext cx="4429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у, а, е, ы, 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" name="Object 2"/>
          <p:cNvGraphicFramePr/>
          <p:nvPr/>
        </p:nvGraphicFramePr>
        <p:xfrm>
          <a:off x="500040" y="3071880"/>
          <a:ext cx="2363760" cy="24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040" y="3071880"/>
                    <a:ext cx="236376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7858080" y="600084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8"/>
          <p:cNvSpPr/>
          <p:nvPr/>
        </p:nvSpPr>
        <p:spPr>
          <a:xfrm>
            <a:off x="357120" y="1714680"/>
            <a:ext cx="2232000" cy="3445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свин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журав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143240" y="1785960"/>
            <a:ext cx="2373480" cy="3445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сви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мя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журав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6786720" y="4357800"/>
            <a:ext cx="2000160" cy="11430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 action="ppaction://hlinksldjump"/>
              </a:rPr>
              <a:t>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6858000" y="3143160"/>
            <a:ext cx="2000160" cy="1143000"/>
          </a:xfrm>
          <a:prstGeom prst="roundRect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2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3"/>
          <p:cNvSpPr/>
          <p:nvPr/>
        </p:nvSpPr>
        <p:spPr>
          <a:xfrm>
            <a:off x="6786720" y="1857240"/>
            <a:ext cx="2000160" cy="114300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1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8" descr=""/>
          <p:cNvPicPr/>
          <p:nvPr/>
        </p:nvPicPr>
        <p:blipFill>
          <a:blip r:embed="rId4"/>
          <a:stretch/>
        </p:blipFill>
        <p:spPr>
          <a:xfrm>
            <a:off x="639720" y="360360"/>
            <a:ext cx="7718400" cy="11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2"/>
          <p:cNvGraphicFramePr/>
          <p:nvPr/>
        </p:nvGraphicFramePr>
        <p:xfrm>
          <a:off x="2143080" y="4403880"/>
          <a:ext cx="2189160" cy="2454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4403880"/>
                    <a:ext cx="218916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500960" y="600084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3">
            <a:hlinkClick r:id="rId1" action="ppaction://hlinksldjump"/>
          </p:cNvPr>
          <p:cNvSpPr/>
          <p:nvPr/>
        </p:nvSpPr>
        <p:spPr>
          <a:xfrm>
            <a:off x="3286080" y="5356080"/>
            <a:ext cx="4454640" cy="784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  <a:ea typeface="Arial"/>
              </a:rPr>
              <a:t>поставить его под уда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4">
            <a:hlinkClick r:id="rId2" action="ppaction://hlinksldjump"/>
          </p:cNvPr>
          <p:cNvSpPr/>
          <p:nvPr/>
        </p:nvSpPr>
        <p:spPr>
          <a:xfrm>
            <a:off x="3214800" y="3855960"/>
            <a:ext cx="4525920" cy="784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  <a:ea typeface="Arial"/>
              </a:rPr>
              <a:t>заменить на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5"/>
          <p:cNvSpPr/>
          <p:nvPr/>
        </p:nvSpPr>
        <p:spPr>
          <a:xfrm>
            <a:off x="3214800" y="2500200"/>
            <a:ext cx="4525920" cy="78444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  <a:ea typeface="Arial"/>
              </a:rPr>
              <a:t>проверить его согла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6" descr=""/>
          <p:cNvPicPr/>
          <p:nvPr/>
        </p:nvPicPr>
        <p:blipFill>
          <a:blip r:embed="rId3"/>
          <a:stretch/>
        </p:blipFill>
        <p:spPr>
          <a:xfrm>
            <a:off x="360360" y="360360"/>
            <a:ext cx="7497720" cy="11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7358040" y="642960"/>
          <a:ext cx="1677960" cy="2212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58040" y="642960"/>
                    <a:ext cx="167796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428760" y="2928960"/>
          <a:ext cx="2322360" cy="2428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2928960"/>
                    <a:ext cx="23223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858080" y="592920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524400" y="2475000"/>
            <a:ext cx="2170080" cy="3902040"/>
          </a:xfrm>
          <a:prstGeom prst="rect">
            <a:avLst/>
          </a:prstGeom>
          <a:ln w="0">
            <a:noFill/>
          </a:ln>
        </p:spPr>
      </p:pic>
      <p:pic>
        <p:nvPicPr>
          <p:cNvPr id="78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6235560" y="2182680"/>
            <a:ext cx="2225880" cy="3760920"/>
          </a:xfrm>
          <a:prstGeom prst="rect">
            <a:avLst/>
          </a:prstGeom>
          <a:ln w="0">
            <a:noFill/>
          </a:ln>
        </p:spPr>
      </p:pic>
      <p:pic>
        <p:nvPicPr>
          <p:cNvPr id="79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665280" y="2255760"/>
            <a:ext cx="2382840" cy="376092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6" descr=""/>
          <p:cNvPicPr/>
          <p:nvPr/>
        </p:nvPicPr>
        <p:blipFill>
          <a:blip r:embed="rId4"/>
          <a:stretch/>
        </p:blipFill>
        <p:spPr>
          <a:xfrm>
            <a:off x="0" y="285840"/>
            <a:ext cx="800424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Object 2"/>
          <p:cNvGraphicFramePr/>
          <p:nvPr/>
        </p:nvGraphicFramePr>
        <p:xfrm>
          <a:off x="8215200" y="357120"/>
          <a:ext cx="663840" cy="1487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15200" y="357120"/>
                    <a:ext cx="663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858080" y="600084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3"/>
          <p:cNvSpPr/>
          <p:nvPr/>
        </p:nvSpPr>
        <p:spPr>
          <a:xfrm>
            <a:off x="6215040" y="2357280"/>
            <a:ext cx="2376360" cy="3451320"/>
          </a:xfrm>
          <a:custGeom>
            <a:avLst/>
            <a:gdLst>
              <a:gd name="textAreaLeft" fmla="*/ 164520 w 2376360"/>
              <a:gd name="textAreaRight" fmla="*/ 2211840 w 2376360"/>
              <a:gd name="textAreaTop" fmla="*/ 164520 h 3451320"/>
              <a:gd name="textAreaBottom" fmla="*/ 3286800 h 3451320"/>
            </a:gdLst>
            <a:ahLst/>
            <a:rect l="textAreaLeft" t="textAreaTop" r="textAreaRight" b="textAreaBottom"/>
            <a:pathLst>
              <a:path w="21600" h="31369">
                <a:moveTo>
                  <a:pt x="5109" y="0"/>
                </a:moveTo>
                <a:arcTo wR="5109" hR="5109" stAng="16200000" swAng="-5400000"/>
                <a:lnTo>
                  <a:pt x="0" y="26260"/>
                </a:lnTo>
                <a:arcTo wR="5109" hR="5109" stAng="10800000" swAng="-5400000"/>
                <a:lnTo>
                  <a:pt x="16491" y="31369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дома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рог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зме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пчел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гроз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3429000" y="2428920"/>
            <a:ext cx="2440080" cy="3451320"/>
          </a:xfrm>
          <a:custGeom>
            <a:avLst/>
            <a:gdLst>
              <a:gd name="textAreaLeft" fmla="*/ 164160 w 2440080"/>
              <a:gd name="textAreaRight" fmla="*/ 2275920 w 2440080"/>
              <a:gd name="textAreaTop" fmla="*/ 164160 h 3451320"/>
              <a:gd name="textAreaBottom" fmla="*/ 3287160 h 3451320"/>
            </a:gdLst>
            <a:ahLst/>
            <a:rect l="textAreaLeft" t="textAreaTop" r="textAreaRight" b="textAreaBottom"/>
            <a:pathLst>
              <a:path w="21600" h="30550">
                <a:moveTo>
                  <a:pt x="4971" y="0"/>
                </a:moveTo>
                <a:arcTo wR="4971" hR="4971" stAng="16200000" swAng="-5400000"/>
                <a:lnTo>
                  <a:pt x="0" y="25579"/>
                </a:lnTo>
                <a:arcTo wR="4971" hR="4971" stAng="10800000" swAng="-5400000"/>
                <a:lnTo>
                  <a:pt x="16629" y="30550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рабо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дежу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мороз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мол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л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6" descr=""/>
          <p:cNvPicPr/>
          <p:nvPr/>
        </p:nvPicPr>
        <p:blipFill>
          <a:blip r:embed="rId1"/>
          <a:stretch/>
        </p:blipFill>
        <p:spPr>
          <a:xfrm>
            <a:off x="878040" y="396720"/>
            <a:ext cx="7887960" cy="130356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5"/>
          <p:cNvSpPr/>
          <p:nvPr/>
        </p:nvSpPr>
        <p:spPr>
          <a:xfrm>
            <a:off x="642960" y="2357280"/>
            <a:ext cx="2305080" cy="3451320"/>
          </a:xfrm>
          <a:custGeom>
            <a:avLst/>
            <a:gdLst>
              <a:gd name="textAreaLeft" fmla="*/ 185400 w 2305080"/>
              <a:gd name="textAreaRight" fmla="*/ 2119680 w 2305080"/>
              <a:gd name="textAreaTop" fmla="*/ 185400 h 3451320"/>
              <a:gd name="textAreaBottom" fmla="*/ 3265920 h 3451320"/>
            </a:gdLst>
            <a:ahLst/>
            <a:rect l="textAreaLeft" t="textAreaTop" r="textAreaRight" b="textAreaBottom"/>
            <a:pathLst>
              <a:path w="21600" h="32339">
                <a:moveTo>
                  <a:pt x="5931" y="0"/>
                </a:moveTo>
                <a:arcTo wR="5931" hR="5931" stAng="16200000" swAng="-5400000"/>
                <a:lnTo>
                  <a:pt x="0" y="26408"/>
                </a:lnTo>
                <a:arcTo wR="5931" hR="5931" stAng="10800000" swAng="-5400000"/>
                <a:lnTo>
                  <a:pt x="15669" y="32339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хоро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каранд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посу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ру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214200" y="500040"/>
          <a:ext cx="1357560" cy="996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500040"/>
                    <a:ext cx="135756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Управляющая кнопка: в конец 8">
            <a:hlinkClick r:id="" action="ppaction://hlinkshowjump?jump=lastslide"/>
          </p:cNvPr>
          <p:cNvSpPr/>
          <p:nvPr/>
        </p:nvSpPr>
        <p:spPr>
          <a:xfrm>
            <a:off x="8101080" y="5815080"/>
            <a:ext cx="1042920" cy="828720"/>
          </a:xfrm>
          <a:custGeom>
            <a:avLst/>
            <a:gdLst>
              <a:gd name="textAreaLeft" fmla="*/ 53640 w 1042920"/>
              <a:gd name="textAreaRight" fmla="*/ 989280 w 10429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7181" h="21600">
                <a:moveTo>
                  <a:pt x="0" y="0"/>
                </a:moveTo>
                <a:lnTo>
                  <a:pt x="27181" y="0"/>
                </a:lnTo>
                <a:lnTo>
                  <a:pt x="27181" y="21600"/>
                </a:lnTo>
                <a:lnTo>
                  <a:pt x="0" y="21600"/>
                </a:lnTo>
                <a:close/>
              </a:path>
              <a:path fill="lightenLess" w="27181" h="21600">
                <a:moveTo>
                  <a:pt x="0" y="0"/>
                </a:moveTo>
                <a:lnTo>
                  <a:pt x="27181" y="0"/>
                </a:lnTo>
                <a:lnTo>
                  <a:pt x="25781" y="1400"/>
                </a:lnTo>
                <a:lnTo>
                  <a:pt x="1400" y="1400"/>
                </a:lnTo>
                <a:close/>
              </a:path>
              <a:path fill="darken" w="27181" h="21600">
                <a:moveTo>
                  <a:pt x="27181" y="0"/>
                </a:moveTo>
                <a:lnTo>
                  <a:pt x="27181" y="21600"/>
                </a:lnTo>
                <a:lnTo>
                  <a:pt x="25781" y="20200"/>
                </a:lnTo>
                <a:lnTo>
                  <a:pt x="25781" y="1400"/>
                </a:lnTo>
                <a:close/>
              </a:path>
              <a:path fill="darkenLess" w="27181" h="21600">
                <a:moveTo>
                  <a:pt x="27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81" y="20200"/>
                </a:lnTo>
                <a:close/>
              </a:path>
              <a:path fill="lighten" w="27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81" h="21600">
                <a:moveTo>
                  <a:pt x="17089" y="10800"/>
                </a:moveTo>
                <a:lnTo>
                  <a:pt x="6584" y="17806"/>
                </a:lnTo>
                <a:lnTo>
                  <a:pt x="6584" y="3794"/>
                </a:lnTo>
                <a:close/>
              </a:path>
              <a:path fill="darken" w="27181" h="21600">
                <a:moveTo>
                  <a:pt x="18934" y="3794"/>
                </a:moveTo>
                <a:lnTo>
                  <a:pt x="18934" y="17806"/>
                </a:lnTo>
                <a:lnTo>
                  <a:pt x="20597" y="17806"/>
                </a:lnTo>
                <a:lnTo>
                  <a:pt x="20597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2" descr=""/>
          <p:cNvPicPr/>
          <p:nvPr/>
        </p:nvPicPr>
        <p:blipFill>
          <a:blip r:embed="rId1"/>
          <a:stretch/>
        </p:blipFill>
        <p:spPr>
          <a:xfrm>
            <a:off x="2425680" y="1785960"/>
            <a:ext cx="4346640" cy="97632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929720" y="5929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7493"/>
                </a:moveTo>
                <a:lnTo>
                  <a:pt x="12922" y="7493"/>
                </a:lnTo>
                <a:lnTo>
                  <a:pt x="12922" y="12828"/>
                </a:lnTo>
                <a:cubicBezTo>
                  <a:pt x="12922" y="13751"/>
                  <a:pt x="13723" y="14482"/>
                  <a:pt x="14759" y="14482"/>
                </a:cubicBezTo>
                <a:lnTo>
                  <a:pt x="16421" y="14482"/>
                </a:lnTo>
                <a:cubicBezTo>
                  <a:pt x="17457" y="14482"/>
                  <a:pt x="18257" y="13751"/>
                  <a:pt x="18257" y="12828"/>
                </a:cubicBezTo>
                <a:lnTo>
                  <a:pt x="18257" y="7493"/>
                </a:lnTo>
                <a:lnTo>
                  <a:pt x="16421" y="7493"/>
                </a:lnTo>
                <a:lnTo>
                  <a:pt x="19929" y="3985"/>
                </a:lnTo>
                <a:lnTo>
                  <a:pt x="23602" y="7493"/>
                </a:lnTo>
                <a:lnTo>
                  <a:pt x="21765" y="7493"/>
                </a:lnTo>
                <a:lnTo>
                  <a:pt x="21765" y="12828"/>
                </a:lnTo>
                <a:cubicBezTo>
                  <a:pt x="21765" y="15596"/>
                  <a:pt x="19189" y="18155"/>
                  <a:pt x="16421" y="18155"/>
                </a:cubicBezTo>
                <a:lnTo>
                  <a:pt x="14759" y="18155"/>
                </a:lnTo>
                <a:cubicBezTo>
                  <a:pt x="11991" y="18155"/>
                  <a:pt x="9415" y="15596"/>
                  <a:pt x="9415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629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" descr=""/>
          <p:cNvPicPr/>
          <p:nvPr/>
        </p:nvPicPr>
        <p:blipFill>
          <a:blip r:embed="rId1"/>
          <a:stretch/>
        </p:blipFill>
        <p:spPr>
          <a:xfrm>
            <a:off x="1695600" y="1268280"/>
            <a:ext cx="5960880" cy="134640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возврат 2">
            <a:hlinkClick r:id="" action="ppaction://hlinkshowjump?jump=previousslide"/>
          </p:cNvPr>
          <p:cNvSpPr/>
          <p:nvPr/>
        </p:nvSpPr>
        <p:spPr>
          <a:xfrm>
            <a:off x="7929720" y="5929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7493"/>
                </a:moveTo>
                <a:lnTo>
                  <a:pt x="12922" y="7493"/>
                </a:lnTo>
                <a:lnTo>
                  <a:pt x="12922" y="12828"/>
                </a:lnTo>
                <a:cubicBezTo>
                  <a:pt x="12922" y="13751"/>
                  <a:pt x="13723" y="14482"/>
                  <a:pt x="14759" y="14482"/>
                </a:cubicBezTo>
                <a:lnTo>
                  <a:pt x="16421" y="14482"/>
                </a:lnTo>
                <a:cubicBezTo>
                  <a:pt x="17457" y="14482"/>
                  <a:pt x="18257" y="13751"/>
                  <a:pt x="18257" y="12828"/>
                </a:cubicBezTo>
                <a:lnTo>
                  <a:pt x="18257" y="7493"/>
                </a:lnTo>
                <a:lnTo>
                  <a:pt x="16421" y="7493"/>
                </a:lnTo>
                <a:lnTo>
                  <a:pt x="19929" y="3985"/>
                </a:lnTo>
                <a:lnTo>
                  <a:pt x="23602" y="7493"/>
                </a:lnTo>
                <a:lnTo>
                  <a:pt x="21765" y="7493"/>
                </a:lnTo>
                <a:lnTo>
                  <a:pt x="21765" y="12828"/>
                </a:lnTo>
                <a:cubicBezTo>
                  <a:pt x="21765" y="15596"/>
                  <a:pt x="19189" y="18155"/>
                  <a:pt x="16421" y="18155"/>
                </a:cubicBezTo>
                <a:lnTo>
                  <a:pt x="14759" y="18155"/>
                </a:lnTo>
                <a:cubicBezTo>
                  <a:pt x="11991" y="18155"/>
                  <a:pt x="9415" y="15596"/>
                  <a:pt x="9415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3105000" y="2162160"/>
            <a:ext cx="2934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6:22:41Z</dcterms:created>
  <dc:creator>Альбина</dc:creator>
  <dc:description/>
  <dc:language>en-US</dc:language>
  <cp:lastModifiedBy>Пользователь Windows</cp:lastModifiedBy>
  <dcterms:modified xsi:type="dcterms:W3CDTF">2022-06-19T19:12:00Z</dcterms:modified>
  <cp:revision>17</cp:revision>
  <dc:subject/>
  <dc:title>Слайд 1</dc:title>
</cp:coreProperties>
</file>